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28071"/>
        <c:axId val="1277312"/>
      </c:barChart>
      <c:catAx>
        <c:axId val="88228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7312"/>
        <c:crosses val="autoZero"/>
        <c:auto val="1"/>
        <c:lblAlgn val="ctr"/>
        <c:lblOffset val="100"/>
        <c:noMultiLvlLbl val="0"/>
      </c:catAx>
      <c:valAx>
        <c:axId val="1277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28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E40-9DBB-4951-8F96-DC724419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7C70-A5AB-457E-9F06-89E83910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A78-C01A-4AC2-900B-7ED24AFF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57E-66D8-4BF5-82DE-D3D3D70A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86D-F133-4D7A-AD37-FF8C13D1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EED-81B4-4862-BBAB-1DF39C58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173-4F9D-427A-B924-A65C085F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B1D-E690-450B-A3C2-99BF17A6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3ED-C9E4-4EBA-9125-9AE74F95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068A-33F6-4FEF-A86E-888BF4C4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786-BCAB-49EB-93BE-AD097C9C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760A-EF79-403D-BA8F-23CACEE4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3F6AF-ECD1-4D73-A106-F6C1B3BD72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