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52499"/>
        <c:axId val="1930364"/>
      </c:barChart>
      <c:catAx>
        <c:axId val="67552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0364"/>
        <c:crosses val="autoZero"/>
        <c:auto val="1"/>
        <c:lblAlgn val="ctr"/>
        <c:lblOffset val="100"/>
        <c:noMultiLvlLbl val="0"/>
      </c:catAx>
      <c:valAx>
        <c:axId val="1930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52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992-CB61-4FED-B575-9187FA5B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9CF-5121-45F8-B676-237CFBA3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DB6-8303-42A7-A124-241D0C4D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ADA-C1ED-4E56-9165-FAB752CC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DAB-F538-44A2-A988-261ACD1D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1F4-8686-45EA-BBC5-40B3119E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F7F-3E97-4EB6-9DF7-B50C669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074-C297-4C75-BAB8-1E6B17C7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C5D-6B68-406B-B9DA-7F5D9385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FAF-979E-4861-9F2B-B4485D0B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979-EC81-411A-98D1-AE2BC1B1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097-B55C-4661-B8D4-D5242C29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4BE28-1F00-4E12-BBF0-1E0C0834AA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