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2354"/>
        <c:axId val="47238816"/>
      </c:barChart>
      <c:catAx>
        <c:axId val="18442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38816"/>
        <c:crosses val="autoZero"/>
        <c:auto val="1"/>
        <c:lblAlgn val="ctr"/>
        <c:lblOffset val="100"/>
        <c:noMultiLvlLbl val="0"/>
      </c:catAx>
      <c:valAx>
        <c:axId val="47238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2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BCE-2730-424B-80F6-FD14882D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A11-AD61-4B42-A2A3-E078711C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EEB-DE80-429F-9462-3D30FC46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05F-3D22-492F-93F6-FC0AB9A5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8A9-2979-40C1-B8F9-D767F21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E82-5F16-471B-9A06-0DEE69A6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0D4-F66A-4D7B-B9ED-13CB61E4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D93-29A2-40F8-9334-505E84BA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31C-BBA0-447B-9A3C-38FA0307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A24-7017-4BB6-BF20-A51FEA2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02E-08DD-491D-A547-331C62BD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20D-6428-4DE1-A498-93102C7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40A22-17AC-467D-A421-6F63C9DB53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