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16726"/>
        <c:axId val="5849426"/>
      </c:barChart>
      <c:catAx>
        <c:axId val="49916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426"/>
        <c:crosses val="autoZero"/>
        <c:auto val="1"/>
        <c:lblAlgn val="ctr"/>
        <c:lblOffset val="100"/>
        <c:noMultiLvlLbl val="0"/>
      </c:catAx>
      <c:valAx>
        <c:axId val="5849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16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D0A-557F-473E-A6D1-9E11BBD1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F2A-65F5-4E5E-B132-C7A0F8ED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487-4554-4C48-9642-3E158192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4C7-0526-48AF-B074-607271FF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292-0612-4F5C-B546-49588B1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F95-1530-4062-AB40-B8B5BCDA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7B7-1432-41B5-AB09-2D6DDECC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0D7-701D-42DE-A996-0F2B9FAE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BE1-7DF0-4B97-9BD3-03789E4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7E1-922F-462D-B457-0C2BC834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A83-3DCD-4BA7-A888-BABF2EC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127-B3CE-4079-A815-4FCC7E9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0F40-E321-4383-B253-2C1B35D59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