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62062"/>
        <c:axId val="13342033"/>
      </c:barChart>
      <c:catAx>
        <c:axId val="944620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42033"/>
        <c:crosses val="autoZero"/>
        <c:auto val="1"/>
        <c:lblAlgn val="ctr"/>
        <c:lblOffset val="100"/>
        <c:noMultiLvlLbl val="0"/>
      </c:catAx>
      <c:valAx>
        <c:axId val="133420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620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AEB2-FF45-48DF-AC79-0D3358DA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A498-A233-4D26-8667-EAA5C228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457C-92A6-4E5B-A400-E988448C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C82B-6764-43B5-B0E4-C01636A0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BD6E-8F5B-46CC-A69B-3E354B54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9328-827D-4B64-8A87-586A80D0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105-AF90-4897-B2F5-59F78097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4AB0-F2B1-4ED7-9A08-1C9C73DA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5EA-BF0D-497F-8D43-DBE644CD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DF1-5DD0-4F24-8DA1-C8C00F59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C64-2CD6-4DCD-B18C-B7AD349D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CC1A-4BEE-43FD-9A8B-75E98D05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62325-3C57-4B8C-A927-C1FE37574E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