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48155"/>
        <c:axId val="6747369"/>
      </c:barChart>
      <c:catAx>
        <c:axId val="35448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369"/>
        <c:crosses val="autoZero"/>
        <c:auto val="1"/>
        <c:lblAlgn val="ctr"/>
        <c:lblOffset val="100"/>
        <c:noMultiLvlLbl val="0"/>
      </c:catAx>
      <c:valAx>
        <c:axId val="6747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48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BC8-D2DB-49D3-9730-038ED99F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004-D3FA-4757-A189-1E41C0A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5C5-ADEA-4C78-A9C5-50FE9345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0A0-9B18-4BAA-9E63-B23DA5A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6C6-7171-4327-AE37-187F2DEB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1BC-2866-4C71-966A-4078D242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B2F-4B1A-4A17-83D5-DA20D79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7E7-B7F6-4498-B00D-26C3C90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E8A-4C7E-4635-983C-7318F2DC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1AE-EF99-4B22-A007-3B7AB0C8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A1C-7652-448E-9857-92E080B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0EF-F348-4F91-A4FB-3CDBDA4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89824-7D98-4487-A405-6831FE81B4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