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27600"/>
        <c:axId val="2409751"/>
      </c:barChart>
      <c:catAx>
        <c:axId val="10727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751"/>
        <c:crosses val="autoZero"/>
        <c:auto val="1"/>
        <c:lblAlgn val="ctr"/>
        <c:lblOffset val="100"/>
        <c:noMultiLvlLbl val="0"/>
      </c:catAx>
      <c:valAx>
        <c:axId val="2409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27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114-AA42-4F9D-967C-630B6348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1A4-32C1-4E8F-9BFD-B48BB5A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E45-20F5-485D-A29B-C742C61A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6A1-31EF-44A1-B5D6-2DEF89BB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027-8B10-4103-B576-E4448B1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35F-D935-4516-8E30-3D59636F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6A3-1584-412D-B189-CCFCB88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59C-DBE8-417A-A06B-607093FB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902-BA76-40E6-B601-7C8B52C2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FDC-E690-45A2-AEDF-127646A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F14-61E5-48C7-9A7E-030FD52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A99-53B5-415B-877D-874F5A8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55784-ED0A-47D4-89AC-3BBCB0115A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