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46151"/>
        <c:axId val="15525069"/>
      </c:barChart>
      <c:catAx>
        <c:axId val="52646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5069"/>
        <c:crosses val="autoZero"/>
        <c:auto val="1"/>
        <c:lblAlgn val="ctr"/>
        <c:lblOffset val="100"/>
        <c:noMultiLvlLbl val="0"/>
      </c:catAx>
      <c:valAx>
        <c:axId val="15525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46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A10-1892-4079-A04D-8BF53D93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8C6-5AD1-4459-986B-723342C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A03-A3D8-413F-909B-E317E65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32A-1DBB-46BA-A4BD-71F1A248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693-2C6A-4AAE-B2D4-122703E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54C-C07F-42F2-BD13-29BFE66D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B24-ED54-4D16-8EE6-EC12182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1D2-FE14-4593-8B13-F88B51F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312-159A-4D7E-8A34-6DA4D69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45B-1AF3-42E2-9EDE-98778C4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E28-2310-4F73-B5C1-43DF63E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9B4-89EC-403B-8F2D-DCBD932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2ED7-61D4-4AE9-AD9C-8FA597CFB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