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67768"/>
        <c:axId val="19704605"/>
      </c:barChart>
      <c:catAx>
        <c:axId val="52467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04605"/>
        <c:crosses val="autoZero"/>
        <c:auto val="1"/>
        <c:lblAlgn val="ctr"/>
        <c:lblOffset val="100"/>
        <c:noMultiLvlLbl val="0"/>
      </c:catAx>
      <c:valAx>
        <c:axId val="19704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67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F19-AF8C-484C-9081-F499FE8E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B84-FFC1-4F2B-8ACF-8E7FBC96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72B-1E49-49B8-99EE-FDB9B3A6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8AF-AB5B-4DBE-93D2-0E079862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AC6-0389-40AE-AFF3-196ADA1F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636-EA9F-4E13-9C4A-9196A18E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47B-C132-48B0-BDA4-5BAF8096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C28-E7D6-47A6-AFAB-FD0F269A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1C6-19EB-446E-905A-0BAEAE5D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849-0767-4026-A265-8197D2D9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28D-F837-47EE-A8BF-E6DF4AA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1A6-B323-4BEF-A0F3-A04B3C4F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05B9B-9030-4F96-8B71-03CE0202D7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