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30565"/>
        <c:axId val="50959671"/>
      </c:barChart>
      <c:catAx>
        <c:axId val="16305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59671"/>
        <c:crosses val="autoZero"/>
        <c:auto val="1"/>
        <c:lblAlgn val="ctr"/>
        <c:lblOffset val="100"/>
        <c:noMultiLvlLbl val="0"/>
      </c:catAx>
      <c:valAx>
        <c:axId val="50959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05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189-28EC-4308-BBD4-E32128C2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D86-DED7-4A02-BF3E-4BE3F728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074E-2445-4469-AA76-02BD71EA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EB2-0CE2-43A4-98EC-ABFB63FB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3513-FDE7-4624-84DB-B6D5FEE0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88ED-37BE-47C6-AABF-53565BEA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905-062A-4C10-8856-1A9BDFAA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BD78-A83A-4C39-9A99-777A2D0C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3DF-32D1-4AC2-895D-E5033D85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9C72-D087-412D-A9CE-492B201A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E85E-A446-4E3B-9C2B-2DBC92CC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F55A-F0E7-4BDF-961C-6BB3B782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06706-55E1-4465-A289-47C773780E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