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91226"/>
        <c:axId val="30361854"/>
      </c:barChart>
      <c:catAx>
        <c:axId val="10591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61854"/>
        <c:crosses val="autoZero"/>
        <c:auto val="1"/>
        <c:lblAlgn val="ctr"/>
        <c:lblOffset val="100"/>
        <c:noMultiLvlLbl val="0"/>
      </c:catAx>
      <c:valAx>
        <c:axId val="30361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91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482-02AB-43AD-AB35-18A2D6DF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F2E-E356-4A21-933D-340562AD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E75-ADD5-4A20-BFD6-C0FE3D4D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E1C-37C0-4A68-9A5F-30FFF4C9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4C8-C5C8-4A12-98EB-275718AF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8B6-250B-47E7-B345-94247BC2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C13-D55A-49DC-BF5D-AE37E3A4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E80-A119-4247-9EB5-D116C48F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477-CD66-4B23-8F4A-8D4047EC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F2F-ECA4-4470-825A-7D1CDCF3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31D-1DA5-4DC1-8B39-A1BBA97C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78E-7534-44C5-BD5F-E79857D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9C86B-A43F-4A13-A89B-3B82EFBD5E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