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22020"/>
        <c:axId val="90452869"/>
      </c:barChart>
      <c:catAx>
        <c:axId val="48622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2869"/>
        <c:crosses val="autoZero"/>
        <c:auto val="1"/>
        <c:lblAlgn val="ctr"/>
        <c:lblOffset val="100"/>
        <c:noMultiLvlLbl val="0"/>
      </c:catAx>
      <c:valAx>
        <c:axId val="90452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2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E28-A103-48E7-A57C-AD6A4783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912-B28F-4743-95C1-E4EC9B3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FE7-BC5A-4D04-ACF9-E653ABB9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A19-2C52-4259-BD5C-22DEF129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A48-BC56-4361-98BF-D63DE74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E8E-9114-45AA-884C-98420BB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9CC-3FF0-4D1D-A732-E3A8634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2B1-08D2-4252-AADB-E38E89B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998-40C0-4CA9-882E-D515F968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4B9-BCA5-4361-A6F1-B01CA913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784-01D2-492E-AE46-EC57CFF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30A-02C5-4A1D-96A1-BAC7806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76A31-AB32-44FB-8DB0-67D77ED5C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