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3446957"/>
        <c:axId val="3884225"/>
      </c:barChart>
      <c:catAx>
        <c:axId val="7344695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84225"/>
        <c:crosses val="autoZero"/>
        <c:auto val="1"/>
        <c:lblAlgn val="ctr"/>
        <c:lblOffset val="100"/>
        <c:noMultiLvlLbl val="0"/>
      </c:catAx>
      <c:valAx>
        <c:axId val="388422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44695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70B79-1725-4D74-9F69-6D8AFAA58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5E9BC-528E-4660-B873-856397943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BF67C-EEF6-4278-A16E-2F19FD025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D919A-4127-48AD-8597-924BCFF66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ACF30-6628-4245-A12B-6D3DC20F1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CE5BD-1BB4-4CDB-8353-42CCAD99B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DF783-ED0F-4D58-A08F-4DAC3527F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A6CEF-BE96-40CC-AC04-56A162B87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EB5EF-1B21-4472-9912-361D894B7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0291A-46FD-418B-B286-C71ED1293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E99F1-72BE-4A54-A9C1-1678AF8DD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DE135-F7C8-48F8-AB5D-AAE04082A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5AEC8C-180B-4BB2-8F2C-F8BEB929A0B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