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16336"/>
        <c:axId val="45669195"/>
      </c:barChart>
      <c:catAx>
        <c:axId val="56416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69195"/>
        <c:crosses val="autoZero"/>
        <c:auto val="1"/>
        <c:lblAlgn val="ctr"/>
        <c:lblOffset val="100"/>
        <c:noMultiLvlLbl val="0"/>
      </c:catAx>
      <c:valAx>
        <c:axId val="45669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16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626-E010-439F-AF4C-C8E9DFC2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846-4AFB-4C21-A616-1FD93A3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DA4-44E7-400D-8450-4D43BFA2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531-2A65-4E18-A795-71BD6190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B6D-A09C-4579-BD04-591DF839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BA6-3583-48BE-838F-92DD8D84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A23-3CE3-415E-9AF9-A63B0FC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4F4-7153-486D-9FE5-E6F95133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DF8-66F7-4613-87A5-8BF2C020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3A4-C05B-4FEF-8805-93FFBD5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C9A-B6F7-488D-B569-47CB204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05C-4AE5-4C14-A147-A5B5D6E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3CCB2-1AEC-42DA-8E24-ECCA72EF47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