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131059"/>
        <c:axId val="53143048"/>
      </c:barChart>
      <c:catAx>
        <c:axId val="181310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43048"/>
        <c:crosses val="autoZero"/>
        <c:auto val="1"/>
        <c:lblAlgn val="ctr"/>
        <c:lblOffset val="100"/>
        <c:noMultiLvlLbl val="0"/>
      </c:catAx>
      <c:valAx>
        <c:axId val="531430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310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B5A2-D800-454D-B997-DD565E14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5142-EA39-4039-8AE3-7F7374F0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A3FD-AC2F-482C-8BF9-6939236F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C999-33DA-47A4-8CC0-333E3B33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8C8E-319D-4E04-82A4-B8E38A1C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5C6-2761-439D-B5AB-FE02FA62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3228-8120-41A6-B9F3-4FBEA400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FF1E-2B62-4D62-A769-8A5A1BB9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8495-E9CE-4D48-9CFA-FFA85CA8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360-104E-4CFB-A5DF-A76FDED8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9267-D761-4BBB-A90F-D8701825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89A5-CADE-4507-A9AA-E2E22E61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ABC52-2F7B-49E8-8116-1C06E3D3A9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