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024138"/>
        <c:axId val="99501760"/>
      </c:barChart>
      <c:catAx>
        <c:axId val="960241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01760"/>
        <c:crosses val="autoZero"/>
        <c:auto val="1"/>
        <c:lblAlgn val="ctr"/>
        <c:lblOffset val="100"/>
        <c:noMultiLvlLbl val="0"/>
      </c:catAx>
      <c:valAx>
        <c:axId val="99501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241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7EB-2A24-4134-85EC-8FA05D44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09BC-6734-402B-853B-6B0E09B2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A1D-A604-4435-8CD3-CB780196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3C1-4D32-4ED8-A237-52AD129E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619-B731-4BB9-8B70-54F5D686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640-4FCE-46E1-BECB-81970670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FFD7-C9E9-46A1-B781-01DF2456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9CF4-AAE4-4E90-9ED2-66CFFAAE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82C-503A-4E2B-A290-009ED511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7D81-3D56-4BD4-8ADF-A918B14E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F32-00BC-4EF1-9936-99C8A655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96EE-BC5F-4CDD-868E-768A49DB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798C8-2A10-4EE6-A8A4-0C612973ED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