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27312"/>
        <c:axId val="83945574"/>
      </c:barChart>
      <c:catAx>
        <c:axId val="11027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5574"/>
        <c:crosses val="autoZero"/>
        <c:auto val="1"/>
        <c:lblAlgn val="ctr"/>
        <c:lblOffset val="100"/>
        <c:noMultiLvlLbl val="0"/>
      </c:catAx>
      <c:valAx>
        <c:axId val="83945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7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C36-8EBE-4292-B031-DEC55DDC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98A-C4BB-4C63-9E1B-74B03D88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9AC-BDB7-4563-9AF8-199E0B5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027-D432-43F0-864F-2F05F969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1CC-A3E0-40D6-B413-9B16746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BF0-E309-4576-91AA-3A131CA9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5E3-541D-419F-B7BE-0E4DEA3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24F-2383-46A4-ABB0-ED9458F7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485-983C-43A7-9448-5AF49DBC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56C-25C9-44F9-ACC4-BC00453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3C3-C5AD-48E5-B6B8-C617B32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255-FA9E-4C32-9670-562CABA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123E-1D99-4A4A-8F1A-3C7A42D57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