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34464"/>
        <c:axId val="551671"/>
      </c:barChart>
      <c:catAx>
        <c:axId val="69834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671"/>
        <c:crosses val="autoZero"/>
        <c:auto val="1"/>
        <c:lblAlgn val="ctr"/>
        <c:lblOffset val="100"/>
        <c:noMultiLvlLbl val="0"/>
      </c:catAx>
      <c:valAx>
        <c:axId val="551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34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33E-FD10-43F2-B578-86E2F6F3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1EB4-8991-4AF4-80A7-DAD6451A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B1B-39A6-4222-94D2-F6644341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43D-5B49-49A8-A3F3-3062ADD5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820-FCF9-495A-B73F-369BF787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614-BFE7-486E-9A6A-C490BB52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DCC8-55BA-4B09-87ED-8069220A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11E1-23EA-4DB7-BA9F-03DCDFD0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2FE8-88EE-4BB0-A020-97AE5F39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2976-EF51-47FE-A1EC-F081F79D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FCA-DB30-42A2-B17B-D2BF2DEA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E809-F8CF-41B9-B598-6A744E4A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3D116-FDDA-41F8-9B6F-C6763122DC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