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56603"/>
        <c:axId val="19475165"/>
      </c:barChart>
      <c:catAx>
        <c:axId val="80056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75165"/>
        <c:crosses val="autoZero"/>
        <c:auto val="1"/>
        <c:lblAlgn val="ctr"/>
        <c:lblOffset val="100"/>
        <c:noMultiLvlLbl val="0"/>
      </c:catAx>
      <c:valAx>
        <c:axId val="19475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56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401-07C3-436D-A703-1AC96D53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0E3-03A8-4F62-81F6-2F939BD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E72-F1DC-47CE-8182-58BB975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993-BFF7-488D-AED4-75992E46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586-E71C-46F7-92F2-214C9FF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DBC-FFEE-4CD7-83D1-40E63A4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857-FDC5-4E59-B753-C139046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A86-3F86-42AA-AA98-A140C850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B27-43EB-47CF-AA27-91472A36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BF2-6871-4256-B8D0-BC4F874F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53A-CEB3-4F55-9949-05DF5DC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65E-4BDE-45E4-9636-FC5D8D3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E816E-1860-492A-8602-0122A99D31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