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83670"/>
        <c:axId val="5837961"/>
      </c:barChart>
      <c:catAx>
        <c:axId val="95483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7961"/>
        <c:crosses val="autoZero"/>
        <c:auto val="1"/>
        <c:lblAlgn val="ctr"/>
        <c:lblOffset val="100"/>
        <c:noMultiLvlLbl val="0"/>
      </c:catAx>
      <c:valAx>
        <c:axId val="5837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83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B02-25A0-4D23-9957-5AC77DFD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F63-F62C-409A-A308-16B14249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44D-26E1-4035-9452-D17ED8D4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C81-BBBC-4C02-8F98-E36A6285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9B1-5F4C-42EE-9675-BAF0825F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2FF-0302-482E-8028-D8E7E49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166-002E-4B1D-82AF-88CCCBC0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28F-7C49-45A5-B4BA-E519D0E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36D-BD12-4637-BC8C-2BAE09DA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B12-5F2E-4BCF-A9A3-034673E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57F-9A64-4ED1-AA74-6EAFC2A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9DE-FF5D-404D-AFEC-DC0A24B1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C1023-D889-4577-9495-341D8A891D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