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42298"/>
        <c:axId val="38893859"/>
      </c:barChart>
      <c:catAx>
        <c:axId val="38242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93859"/>
        <c:crosses val="autoZero"/>
        <c:auto val="1"/>
        <c:lblAlgn val="ctr"/>
        <c:lblOffset val="100"/>
        <c:noMultiLvlLbl val="0"/>
      </c:catAx>
      <c:valAx>
        <c:axId val="38893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42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45F-10CE-43C6-A646-C72D5DC0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8A1-1C30-481C-92BE-CCAC2929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863-5A22-491D-A31B-38D4AEDD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F8D-671A-4A8B-8268-B033F18E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3DF-85F0-4014-B6D3-823BFC96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22F-E351-407F-A7C8-380AF474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60F-6A10-40CD-A10E-2C39C74E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D6D-B3EF-429D-834E-16C3A738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6C5-97C3-40A8-8B4F-EB7C7407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AA1-5FB8-4B3D-B1AF-CEF2EB1D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985-27A9-49AE-A34B-CF2D4C42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B76-158A-4441-B48E-A734C035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75280-3A8B-4879-B19F-7E47A40B8B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