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6461"/>
        <c:axId val="32159166"/>
      </c:barChart>
      <c:catAx>
        <c:axId val="12716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9166"/>
        <c:crosses val="autoZero"/>
        <c:auto val="1"/>
        <c:lblAlgn val="ctr"/>
        <c:lblOffset val="100"/>
        <c:noMultiLvlLbl val="0"/>
      </c:catAx>
      <c:valAx>
        <c:axId val="32159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6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5A9-E0F4-4A22-B5AE-70016B7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67A-BD9D-49CB-BE0D-B02D4D1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E55-1671-4ED5-AD48-A2140B85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57E-AC25-43BF-AC2A-D206F0F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9E4-145B-42A6-B325-49605969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C18-6031-4C26-98EC-DEE72497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A0C-B5D8-4B0E-8FCD-127EF6F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F66-1E65-47A9-9D1A-C002223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182-528C-4004-9E0D-EF183F0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90B-C017-4FFA-AF1C-0DCEE73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D1C-FFEE-42FB-861A-C2BEBB2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189-FD20-49F8-AB05-80F96DC2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0ABA-E041-45DF-AFD4-E331965BE1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