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832832"/>
        <c:axId val="80483874"/>
      </c:barChart>
      <c:catAx>
        <c:axId val="428328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483874"/>
        <c:crosses val="autoZero"/>
        <c:auto val="1"/>
        <c:lblAlgn val="ctr"/>
        <c:lblOffset val="100"/>
        <c:noMultiLvlLbl val="0"/>
      </c:catAx>
      <c:valAx>
        <c:axId val="804838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8328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A8A5-2CA1-4C56-86F6-9C8065511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7092-06B1-4489-9BEF-D505B4FA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947C-8666-4EDD-AAF2-13FF962E4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FB80-20B0-4D97-B339-123107F8D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88C5-7260-43FF-BFD3-E4FD2539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C284-CDF7-4B81-A6CC-05A51782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7670-6CF1-4E17-BE6C-76D808A0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E80E-5467-4EBD-B65B-0BA0C38E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5940-38F9-412A-9A9A-C793DEDB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B484-5E9E-4AF3-921A-B5710239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8BBC-7DC3-40B9-98CD-B9A80154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654C-67AA-49C5-AA79-0AD1FB73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51980-D12B-4F9F-A494-E903788DD0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