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44575"/>
        <c:axId val="50634243"/>
      </c:barChart>
      <c:catAx>
        <c:axId val="83444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4243"/>
        <c:crosses val="autoZero"/>
        <c:auto val="1"/>
        <c:lblAlgn val="ctr"/>
        <c:lblOffset val="100"/>
        <c:noMultiLvlLbl val="0"/>
      </c:catAx>
      <c:valAx>
        <c:axId val="50634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4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E08-00EC-4E83-AE33-C1C83D5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4DF-385F-4254-A156-72F29471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477-AB35-4DF8-9AB5-F1EE2CF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90D-A835-4488-9F64-E84EA948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394-125A-4457-8C11-061C5CBA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922-702E-4226-9082-BE894BA3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FF5-A07F-4AAE-A850-A25E23C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292-F729-4CD0-BE6F-0260D18F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967-931C-4315-8051-9EC460F5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2DE-4B23-41D8-B07D-0A89F96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C96-14E6-4F76-9DFC-9149476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D36-AF19-499B-AB11-900256F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90941-8715-42A3-BCEC-AB4D21FED0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