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52848"/>
        <c:axId val="16201587"/>
      </c:barChart>
      <c:catAx>
        <c:axId val="52052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1587"/>
        <c:crosses val="autoZero"/>
        <c:auto val="1"/>
        <c:lblAlgn val="ctr"/>
        <c:lblOffset val="100"/>
        <c:noMultiLvlLbl val="0"/>
      </c:catAx>
      <c:valAx>
        <c:axId val="16201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2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F2D-0BD7-4D0A-ABA0-FC391BB4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05A-8EEE-445C-9FE5-5292125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DAF-A0D4-49A7-8FED-36694E9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310-BAD3-414D-AD86-523F8B0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5B4-0CB9-441A-9D53-4190CDE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D6C-CC5D-4AC7-8E85-7A18B50B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66C-80A2-47E9-B4A7-5E162EC9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33D-66B6-4E22-9538-BF036B30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441-7690-4ADC-A7D2-5180869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3AE-39AF-4703-9A3D-0F61620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394-AFF0-4C78-B2E2-3A5D564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4E0-B26C-4BCA-8240-5D5ACEF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B48F5-3573-49A3-BDE8-9C4CB9CC5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