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5633"/>
        <c:axId val="30526931"/>
      </c:barChart>
      <c:catAx>
        <c:axId val="3456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526931"/>
        <c:crosses val="autoZero"/>
        <c:auto val="1"/>
        <c:lblAlgn val="ctr"/>
        <c:lblOffset val="100"/>
        <c:noMultiLvlLbl val="0"/>
      </c:catAx>
      <c:valAx>
        <c:axId val="305269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56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4372-C3BC-445B-BC91-9BB25C336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2175-349C-4CB8-AE21-07407B378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C9D9-1509-4A3D-9B5C-940568B3C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76F9-FCF5-44A8-912E-5E380FC9B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8B00-BE47-440C-B9AA-623F6F3BF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AA3E-C069-4223-9B70-E2F7CEEE7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D978-61EA-43E6-AF70-B8151CC95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9FD1-F246-4D47-BC6F-BBC0D8728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170C-C1BF-413C-81E6-4CD230B44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E19A-EE31-4B6A-AB55-9FF6749FB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B912-E7A9-4BFD-8982-62839988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4C09-8B17-47FC-9260-A0377B990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D5E8AA-ACE7-406A-B91F-D802FB181AE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