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3481"/>
        <c:axId val="46238319"/>
      </c:barChart>
      <c:catAx>
        <c:axId val="5063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38319"/>
        <c:crosses val="autoZero"/>
        <c:auto val="1"/>
        <c:lblAlgn val="ctr"/>
        <c:lblOffset val="100"/>
        <c:noMultiLvlLbl val="0"/>
      </c:catAx>
      <c:valAx>
        <c:axId val="46238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961-A410-4430-8022-B8A02EB7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9D4-51BD-4F2B-B6C9-F2D3876D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E53-0472-42B2-A23F-D44ECB14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56E-C240-4DC4-AA49-42F98C67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A88-6736-4313-A9FD-37EA7264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D39-09A2-42B6-97B7-3A86C6EC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5C1-9294-49C9-AA39-3541AB0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AAF-E705-4E82-A82C-496AB19C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0D3-CD2C-4193-A772-DD62BFE6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929-F59D-4FB2-A2D5-CEC1700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9A2-A0D7-4BAE-8F01-826D654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1E9-3FBA-4071-AB92-9BEA9D2F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8F69A-16C5-4D6E-BFD3-66D53598EC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