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72765"/>
        <c:axId val="4738478"/>
      </c:barChart>
      <c:catAx>
        <c:axId val="51172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8478"/>
        <c:crosses val="autoZero"/>
        <c:auto val="1"/>
        <c:lblAlgn val="ctr"/>
        <c:lblOffset val="100"/>
        <c:noMultiLvlLbl val="0"/>
      </c:catAx>
      <c:valAx>
        <c:axId val="4738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72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180-17EF-4F5B-A14D-B9123885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9D5-E1FF-4488-B1C6-2A8AE251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FDB-71BA-4086-9139-5BEB4B5A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F8E-7AFE-41EE-B626-7BC8D43E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BBC-AAB9-4117-BF26-401CA088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823-9DE0-4179-893E-0F6641AF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91F-C1CB-4090-A3B6-6D2972A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4EE-EB1A-4537-A9A2-F19DBB29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1F0-2D92-4BF4-865A-D9FEDDD0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E1B-9DEF-4808-9BFC-A2A20EF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FFA-4F2B-42C9-BC70-442AAE3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63A-2A57-4230-9DF1-1F9413A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6BA2-E08F-4B14-B9E8-402C913255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