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10373"/>
        <c:axId val="89403942"/>
      </c:barChart>
      <c:catAx>
        <c:axId val="66210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03942"/>
        <c:crosses val="autoZero"/>
        <c:auto val="1"/>
        <c:lblAlgn val="ctr"/>
        <c:lblOffset val="100"/>
        <c:noMultiLvlLbl val="0"/>
      </c:catAx>
      <c:valAx>
        <c:axId val="89403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10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639-9BC6-45D9-AD16-7012ED92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EA26-D703-4A0B-899B-4B4B6408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7F9-992E-471D-9533-5880F00C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FDC-2C91-4DDA-B7CE-896B3B92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35B-3483-427D-9B4B-0464453F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470-476F-455F-B9DA-42B1EBCB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F1D-307D-4195-A536-0DFE7B32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6B1-6B64-4283-B3D6-1E524F4A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75F-0038-4FCC-B34B-AAF08A11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216-825A-472C-B123-F27A5053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4624-1A67-4572-BC4B-4E133FF6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67D-8B23-4CB0-BFB0-9802CEB7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E89F0-6E72-4E02-8227-4738F175A3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