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56582"/>
        <c:axId val="63512176"/>
      </c:barChart>
      <c:catAx>
        <c:axId val="64756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12176"/>
        <c:crosses val="autoZero"/>
        <c:auto val="1"/>
        <c:lblAlgn val="ctr"/>
        <c:lblOffset val="100"/>
        <c:noMultiLvlLbl val="0"/>
      </c:catAx>
      <c:valAx>
        <c:axId val="63512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56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654-8699-474B-B518-09B2ECD1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8E1-AB19-4EF9-98AE-9A22DD58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4F86-0F90-4442-9C23-19F285FA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338-23D8-424E-ABD0-CB2B635D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D6E-EBBA-4594-92C2-888D9807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FF4-6E24-4EDA-A6A1-E13BD752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32F-C262-4804-B765-9ADFDDB0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A88B-47C5-4785-BDC3-D3A7E574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11F-582A-4D2F-8854-3D2196FB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FC5-CDB2-4DA3-A84D-44A1F3AA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5A2-7F78-45C1-A590-BBCD59C9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ED2-5E6A-46DD-934E-FC49D643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E8214-A104-4D9D-95B0-30328BE0CD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