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851"/>
        <c:axId val="70767151"/>
      </c:barChart>
      <c:catAx>
        <c:axId val="666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67151"/>
        <c:crosses val="autoZero"/>
        <c:auto val="1"/>
        <c:lblAlgn val="ctr"/>
        <c:lblOffset val="100"/>
        <c:noMultiLvlLbl val="0"/>
      </c:catAx>
      <c:valAx>
        <c:axId val="70767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D67-2B68-4BEC-AFFD-A6D7A8CC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B1B-3B23-4D32-B1E0-66525D21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C70-63F5-411B-AAB6-10A3E6FB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C45-A073-4B24-BF2F-E9789BAB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3B6-D262-42A8-84CE-22C21EB5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8BD-6ABF-4297-91D9-857B1B34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72F-F443-4504-9CC4-00241A8B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578-8C0D-4795-B0ED-EF2CA8AA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011-0EAF-462D-A26A-AA54E541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DA1-D419-4064-8B77-5B0EAA85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336-7569-4DE3-B2B3-32B795B0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221-E1B5-48E2-8965-6C8127E3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280B6-9A2D-443B-A170-814F1171A1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