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19321"/>
        <c:axId val="77266385"/>
      </c:barChart>
      <c:catAx>
        <c:axId val="48919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66385"/>
        <c:crosses val="autoZero"/>
        <c:auto val="1"/>
        <c:lblAlgn val="ctr"/>
        <c:lblOffset val="100"/>
        <c:noMultiLvlLbl val="0"/>
      </c:catAx>
      <c:valAx>
        <c:axId val="77266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19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6D1-3CF8-4DE8-B897-3884F27C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AEF-29F2-4597-A1B7-94EF9AB5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D0C-9220-4C84-A1A4-DD80C8B8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DF49-FFCB-4FAC-9C6C-2DFD6224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B99-35F2-414F-81A3-A5533277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56C-D5D1-41AD-8E5B-1C6CF444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3A0-4E81-4DBA-B3CE-91C89338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56E-C8E0-47AB-B498-8C2E9248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42C-2EB8-4AFD-A019-B8C613D9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521-3052-4DEB-9EF6-DA67F367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1A94-0932-4E00-888E-1E67750B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84D-13CC-46BF-84DF-26BDAFEB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C38E4-F768-4380-8A95-0685652638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